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2118-1430-4790-A981-80E9336E7E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5AF8-D85F-45CC-8AEA-76B59A3750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4D4B-4C36-4229-B448-195519E6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43E-A9B0-437C-9153-0B6CD103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0010-2AD0-4C20-B6D2-5E53604E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75B-38E2-41F6-A5BE-733C07A6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330A-785A-4B5E-8E8B-57D08E92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883E-A933-4907-B048-D916B55A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1C40-EA08-43DD-824D-3A58BA5B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A65F-CD18-450F-BDE1-02C4E435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7431-BF72-4873-B56D-AF779B19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D053-6C0F-457B-8EEF-63AFD081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749E-3811-4880-8B29-8A238FD1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D32-FA7D-429B-87AD-7CB38795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B3AE-9F26-48B6-BD69-46809553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9604-C30C-424A-9EBC-ECD8DCF2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9B73-1948-47BB-894E-94C2F497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41B1-0373-43EB-AA2A-7E87B930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5338-61A4-4BBE-8C32-42A05058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77696-1484-45D2-AE74-33BFAD3B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99F60-27E2-41E6-8655-7998D6DC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50C90-F829-41A2-B193-F98708CF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878C0-1ECB-4A80-989C-BA9C8A78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926B5-9A9B-4E4D-A4C7-2842F6B9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F8BE-5FF2-41BD-8A69-71F316D4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AB377-A2F0-4A23-AF10-1C947577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997EA-EB30-4BB2-9076-1AECAE52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42A8F-9EFE-4E67-82CA-B53CF676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E764A-B7B5-4B2E-AE5E-B06DFCC4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638D5-9D00-4756-B7CF-7AF8C35B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7705E-BD34-4859-B385-C498FF27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87F6-EC9D-4C18-8BCF-F3447D26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6525D-85DA-49B0-A717-AE49CF12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F48A5-AAC1-448F-9287-0265E367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6F82F-EB9B-47CA-B7F0-FA0E44E9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2F99-8157-4492-9171-39ACB381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9E555-0C5C-46C6-97C8-3E93A2BC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30BE9-CFCA-4746-AD39-353067D2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AF863-A2B7-4DBA-8213-A69EC928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C349A-46C4-421C-89DE-A1795CEB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85E2C-D673-4D6B-9C58-0BF57931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17643-7D73-4294-812C-AB32FF70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FB084-8979-4FC2-8152-CC22AFE2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C2C37-08A7-4B6D-B98A-9B7DFE40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C7EB2-A54B-45B3-B3CA-92364F7C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8110D-E4A5-45F4-8B5F-81C1412A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2446-25CF-46F7-B039-B253DFD2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E5F9C-F14E-49C2-BB71-CC2A6596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55A50-095B-401D-B290-21184355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7A955-C821-45A5-A820-2C0F30E1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5A331-59A6-4A2E-9152-AE771138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DD4B8-4BC3-488E-BDBE-F2208468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51352-40C1-4689-A86C-BC860D7E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F35F0-5B63-4B81-A9DD-7905DE4C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9441A-FA25-4A19-8622-FB56D72D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00DFF-14A9-4A31-8B4B-364CFA31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72025-239F-4CF1-8E00-96D39672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34E-95E3-4CD2-9B4E-8A190946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71218-6C5B-4932-8602-4BDC34B8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1714-20DF-4873-AA41-F566A6CA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611-109B-492C-98B1-27CC4DCC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8BFD-66B1-4AE7-A135-AB517807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DA93-E610-484F-89DE-4B3B1A5A53F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54FD-DD85-4BCB-A181-17BFE3E84DE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A632-BA06-435B-9B3F-3764BE064FB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2302-A977-45BD-A949-21F08763699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83B7-5EA2-4BE9-AEB2-55B8469238D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2719440" y="228600"/>
            <a:ext cx="37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МБОУ "СОШ №5» МО «ЛМР» 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3193920" y="1143000"/>
            <a:ext cx="2756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ИЧЕСКАЯ ПИЦ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C:\Users\HP\Desktop\Pizza-vector-clipart.png"/>
          <p:cNvPicPr/>
          <p:nvPr/>
        </p:nvPicPr>
        <p:blipFill>
          <a:blip r:embed="rId1"/>
          <a:stretch/>
        </p:blipFill>
        <p:spPr>
          <a:xfrm>
            <a:off x="2590920" y="2438280"/>
            <a:ext cx="4010040" cy="23814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2286000" y="502128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ила учитель 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лиева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ajedrez-6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371600" y="914400"/>
            <a:ext cx="71629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КРУЖАЮЩИЙ МИР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Кроссворды, загад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4" descr="C:\Users\HP\Desktop\pizza-slices-clip-art-images-1024x567.jpg"/>
          <p:cNvPicPr/>
          <p:nvPr/>
        </p:nvPicPr>
        <p:blipFill>
          <a:blip r:embed="rId2"/>
          <a:stretch/>
        </p:blipFill>
        <p:spPr>
          <a:xfrm>
            <a:off x="304920" y="1219320"/>
            <a:ext cx="393048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Fol03wVIgC-1280x720"/>
          <p:cNvPicPr/>
          <p:nvPr/>
        </p:nvPicPr>
        <p:blipFill>
          <a:blip r:embed="rId1"/>
          <a:stretch/>
        </p:blipFill>
        <p:spPr>
          <a:xfrm>
            <a:off x="-1523880" y="0"/>
            <a:ext cx="1219176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бучение грамот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228240"/>
            <a:ext cx="423360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Буква Г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А буквой «Г» - так шахматисты говорят   (Конь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Прыгнет Конь. Подковы звяк!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Необычен каждый шаг: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Буква «Г» и так и сяк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Получается зигзаг!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409720" y="579600"/>
            <a:ext cx="317340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ногозначные сло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4" descr="C:\Users\HP\Desktop\pizza-slices-clip-art-images-1024x567.jpg"/>
          <p:cNvPicPr/>
          <p:nvPr/>
        </p:nvPicPr>
        <p:blipFill>
          <a:blip r:embed="rId2"/>
          <a:stretch/>
        </p:blipFill>
        <p:spPr>
          <a:xfrm>
            <a:off x="304920" y="1905120"/>
            <a:ext cx="3352680" cy="1858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3"/>
          <a:stretch/>
        </p:blipFill>
        <p:spPr>
          <a:xfrm>
            <a:off x="4724280" y="1523880"/>
            <a:ext cx="1371600" cy="952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5"/>
          <p:cNvPicPr/>
          <p:nvPr/>
        </p:nvPicPr>
        <p:blipFill>
          <a:blip r:embed="rId4"/>
          <a:stretch/>
        </p:blipFill>
        <p:spPr>
          <a:xfrm>
            <a:off x="8458200" y="1600200"/>
            <a:ext cx="2025720" cy="18288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5"/>
          <a:stretch/>
        </p:blipFill>
        <p:spPr>
          <a:xfrm>
            <a:off x="6248520" y="2666880"/>
            <a:ext cx="12477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Графический диктант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Одна клеточка вправо – поставьте начальную точку,1 – вправо, 1 – вниз, 1 – вправо, 1 – вверх, 1 – вправо, 1 – вниз, 1 – вправо, 1 – вверх, 1 –вправо, 3 – вниз, 1 – влево, 4 – вниз, 1 – вправо, 2 – вниз, 5 – влево, 2 – вверх, 1 – вправо, 4 – вверх, 1 – влево, 3 – вверх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4908600" y="1828800"/>
            <a:ext cx="3628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5c00"/>
                </a:solidFill>
                <a:latin typeface="Verdana"/>
              </a:rPr>
              <a:t>Литературное чт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782800" y="2516040"/>
          <a:ext cx="3578400" cy="1825920"/>
        </p:xfrm>
        <a:graphic>
          <a:graphicData uri="http://schemas.openxmlformats.org/drawingml/2006/table">
            <a:tbl>
              <a:tblPr/>
              <a:tblGrid>
                <a:gridCol w="428760"/>
                <a:gridCol w="449280"/>
                <a:gridCol w="450720"/>
                <a:gridCol w="449280"/>
                <a:gridCol w="450720"/>
                <a:gridCol w="449280"/>
                <a:gridCol w="451080"/>
                <a:gridCol w="449280"/>
              </a:tblGrid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5" name="Picture 4" descr="C:\Users\HP\Desktop\pizza-slices-clip-art-images-1024x567.jpg"/>
          <p:cNvPicPr/>
          <p:nvPr/>
        </p:nvPicPr>
        <p:blipFill>
          <a:blip r:embed="rId1"/>
          <a:stretch/>
        </p:blipFill>
        <p:spPr>
          <a:xfrm>
            <a:off x="762120" y="838080"/>
            <a:ext cx="28033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7" name="Содержимое 4" descr=""/>
          <p:cNvPicPr/>
          <p:nvPr/>
        </p:nvPicPr>
        <p:blipFill>
          <a:blip r:embed="rId1"/>
          <a:stretch/>
        </p:blipFill>
        <p:spPr>
          <a:xfrm>
            <a:off x="506520" y="523800"/>
            <a:ext cx="3943080" cy="4402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найди словарные слова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обведи их красным цвето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спиши слова в тетрадь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обменяйтесь тетрадями с соседом по плеч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проверь сосед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4" descr="C:\Users\HP\Desktop\pizza-slices-clip-art-images-1024x567.jpg"/>
          <p:cNvPicPr/>
          <p:nvPr/>
        </p:nvPicPr>
        <p:blipFill>
          <a:blip r:embed="rId2"/>
          <a:stretch/>
        </p:blipFill>
        <p:spPr>
          <a:xfrm>
            <a:off x="838080" y="1981080"/>
            <a:ext cx="28036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ЗО,ТЕХНОЛОГ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зор в полос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зор в квадра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иммет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3819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ИЯТНОГО АППЕТИТА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5140080" cy="31082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1295280" y="914040"/>
            <a:ext cx="3322800" cy="4465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2" descr="C:\Users\HP\Desktop\Pizza-vector-clipart.png"/>
          <p:cNvPicPr/>
          <p:nvPr/>
        </p:nvPicPr>
        <p:blipFill>
          <a:blip r:embed="rId2"/>
          <a:stretch/>
        </p:blipFill>
        <p:spPr>
          <a:xfrm>
            <a:off x="6103800" y="3657600"/>
            <a:ext cx="30402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304920" y="15228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 в шахматы вырабатывает в человеке целеустремленность, волю, выносливость, терпение, способность к концентрации внимания, смелость, расчет, умение быстро и правильно принимать решения в меняющейся обстанов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304920" y="457200"/>
            <a:ext cx="85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й во всем мире шахматист А.Алехин писа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Шахматы не только знание и логика, но и глубокая фантазия. Посредством шахмат я воспитал свой характер. Шахматы не просто модель жизни, н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дель творчества. Шахматы, прежде всего, учат быть объективными. В шахматах можно сделаться большим мастером, лишь осознав свои ошибки и недостатки. Совершенно также как и в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6" name="Группа 2"/>
          <p:cNvGrpSpPr/>
          <p:nvPr/>
        </p:nvGrpSpPr>
        <p:grpSpPr>
          <a:xfrm>
            <a:off x="762120" y="457200"/>
            <a:ext cx="7543800" cy="5486400"/>
            <a:chOff x="762120" y="457200"/>
            <a:chExt cx="7543800" cy="5486400"/>
          </a:xfrm>
        </p:grpSpPr>
        <p:pic>
          <p:nvPicPr>
            <p:cNvPr id="237" name="Рисунок 24" descr="&amp;Fcy;&amp;ocy;&amp;tcy;&amp;ocy; 16"/>
            <p:cNvPicPr/>
            <p:nvPr/>
          </p:nvPicPr>
          <p:blipFill>
            <a:blip r:embed="rId2"/>
            <a:stretch/>
          </p:blipFill>
          <p:spPr>
            <a:xfrm>
              <a:off x="762120" y="457200"/>
              <a:ext cx="75438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Прямоугольник 4"/>
            <p:cNvSpPr/>
            <p:nvPr/>
          </p:nvSpPr>
          <p:spPr>
            <a:xfrm>
              <a:off x="894600" y="5315040"/>
              <a:ext cx="3070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ttp://www.kraskidetstva.ru/akcii1/zhivi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ДОБРО ПОЖАЛОВАТЬ!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41" name="Picture 2" descr="C:\Users\HP\Desktop\Pizza-vector-clipart.png"/>
          <p:cNvPicPr/>
          <p:nvPr/>
        </p:nvPicPr>
        <p:blipFill>
          <a:blip r:embed="rId1"/>
          <a:stretch/>
        </p:blipFill>
        <p:spPr>
          <a:xfrm>
            <a:off x="2514600" y="3886200"/>
            <a:ext cx="4106880" cy="2438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Users\HP\Desktop\Pizza-vector-clipart.png"/>
          <p:cNvPicPr/>
          <p:nvPr/>
        </p:nvPicPr>
        <p:blipFill>
          <a:blip r:embed="rId2"/>
          <a:stretch/>
        </p:blipFill>
        <p:spPr>
          <a:xfrm>
            <a:off x="2666880" y="4038480"/>
            <a:ext cx="4106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3000" y="579240"/>
            <a:ext cx="3930480" cy="15541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Давайте вспомним ценность шахматных фигур и вспомним состав чисел: 7, 13,9,15?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Ладья – 5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Конь – 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Слон – 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Ферзь – 9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Пешка – 1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2" descr="C:\Users\HP\Desktop\pkc86jirG.jpg"/>
          <p:cNvPicPr/>
          <p:nvPr/>
        </p:nvPicPr>
        <p:blipFill>
          <a:blip r:embed="rId1"/>
          <a:stretch/>
        </p:blipFill>
        <p:spPr>
          <a:xfrm>
            <a:off x="533520" y="2971800"/>
            <a:ext cx="3930480" cy="1847880"/>
          </a:xfrm>
          <a:prstGeom prst="rect">
            <a:avLst/>
          </a:prstGeom>
          <a:ln w="0">
            <a:noFill/>
          </a:ln>
        </p:spPr>
      </p:pic>
      <p:pic>
        <p:nvPicPr>
          <p:cNvPr id="247" name="Содержимое 9" descr=""/>
          <p:cNvPicPr/>
          <p:nvPr/>
        </p:nvPicPr>
        <p:blipFill>
          <a:blip r:embed="rId2"/>
          <a:stretch/>
        </p:blipFill>
        <p:spPr>
          <a:xfrm>
            <a:off x="5105520" y="2819520"/>
            <a:ext cx="3429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09480" y="579240"/>
            <a:ext cx="7974000" cy="15541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"Симметрия.Ось симметрии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Содержимое 8" descr="https://arhivurokov.ru/kopilka/uploads/user_file_566a958be11f1/user_file_566a958be11f1_1_4.png"/>
          <p:cNvPicPr/>
          <p:nvPr/>
        </p:nvPicPr>
        <p:blipFill>
          <a:blip r:embed="rId1"/>
          <a:stretch/>
        </p:blipFill>
        <p:spPr>
          <a:xfrm>
            <a:off x="5189400" y="2406600"/>
            <a:ext cx="2857680" cy="1571760"/>
          </a:xfrm>
          <a:prstGeom prst="rect">
            <a:avLst/>
          </a:prstGeom>
          <a:ln w="0">
            <a:noFill/>
          </a:ln>
        </p:spPr>
      </p:pic>
      <p:pic>
        <p:nvPicPr>
          <p:cNvPr id="252" name="Содержимое 11" descr="https://arhivurokov.ru/kopilka/up/html/2017/05/11/k_5913dbdf638f8/414323_11.png"/>
          <p:cNvPicPr/>
          <p:nvPr/>
        </p:nvPicPr>
        <p:blipFill>
          <a:blip r:embed="rId2"/>
          <a:stretch/>
        </p:blipFill>
        <p:spPr>
          <a:xfrm>
            <a:off x="1066680" y="2590920"/>
            <a:ext cx="21639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i2"/>
          <p:cNvPicPr/>
          <p:nvPr/>
        </p:nvPicPr>
        <p:blipFill>
          <a:blip r:embed="rId2"/>
          <a:stretch/>
        </p:blipFill>
        <p:spPr>
          <a:xfrm>
            <a:off x="1981080" y="990720"/>
            <a:ext cx="5181840" cy="51051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8"/>
          <p:cNvSpPr/>
          <p:nvPr/>
        </p:nvSpPr>
        <p:spPr>
          <a:xfrm>
            <a:off x="1219320" y="6019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ахматная до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– 2 =    4 (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 – 2 =   2  (Ч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 + 3 =    10 (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 – 5 =   3   (Р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 + 1 =   8   (Г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 + 2 =  5    (У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 – 2 =  6    (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653000" y="1069920"/>
          <a:ext cx="3930480" cy="1119240"/>
        </p:xfrm>
        <a:graphic>
          <a:graphicData uri="http://schemas.openxmlformats.org/drawingml/2006/table">
            <a:tbl>
              <a:tblPr/>
              <a:tblGrid>
                <a:gridCol w="436680"/>
                <a:gridCol w="334800"/>
                <a:gridCol w="538200"/>
                <a:gridCol w="436680"/>
                <a:gridCol w="438120"/>
                <a:gridCol w="436320"/>
                <a:gridCol w="436680"/>
                <a:gridCol w="436680"/>
                <a:gridCol w="436320"/>
              </a:tblGrid>
              <a:tr h="75096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6828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pic>
        <p:nvPicPr>
          <p:cNvPr id="261" name="Picture 2" descr="http://content.foto.mail.ru/mail/hg.bambus/14/h-62.jpg"/>
          <p:cNvPicPr/>
          <p:nvPr/>
        </p:nvPicPr>
        <p:blipFill>
          <a:blip r:embed="rId1"/>
          <a:stretch/>
        </p:blipFill>
        <p:spPr>
          <a:xfrm>
            <a:off x="5181480" y="2514600"/>
            <a:ext cx="29718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18-03-25T10:28:41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